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01D4-0098-4B05-854A-39DA82799E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7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9739-CEFB-4C13-A633-F2DA4C95A15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05D7-BE1F-4099-B00E-CE86C33A3B9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614E-E27F-4004-906E-F348B2D1EC5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F7182-488B-454B-BCF4-75DF9319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3FFEC-6052-4EA1-9C96-C5D74368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8C9FC-E9BB-41A4-BBD5-182ECEE5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2FCED-17DB-49B9-AAE4-4904F6D3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F7D5B-436C-488E-B43A-F7FD344D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E1E8F-4F45-4892-A46F-258C73C3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D4F72-D809-4676-A076-59264348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D4264-5B4C-48D6-92AD-300CE04E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CCA0C-181B-4D93-91A4-B8E3D71E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1A061-AECF-403B-86D3-E43EEDFC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6AAEF-F81E-48E6-BB29-C6A2A8C9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EED19-1B22-47C1-B4F6-58231A22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8F9F-75AE-4C6B-B5EA-A2681534007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3AAF-80FE-4865-B4D7-C3E8B7C0E49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79CE-0502-43DC-9ECA-8645B07BB21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8F64-B7FC-4B50-AB70-65836F76ED6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C631-90CE-416E-BA9C-5CC7390D875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185724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6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여가생활과 교육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그룹 9"/>
          <p:cNvGrpSpPr/>
          <p:nvPr/>
        </p:nvGrpSpPr>
        <p:grpSpPr>
          <a:xfrm>
            <a:off x="285840" y="142920"/>
            <a:ext cx="8643960" cy="6286320"/>
            <a:chOff x="285840" y="142920"/>
            <a:chExt cx="8643960" cy="6286320"/>
          </a:xfrm>
        </p:grpSpPr>
        <p:grpSp>
          <p:nvGrpSpPr>
            <p:cNvPr id="382" name="그룹 34"/>
            <p:cNvGrpSpPr/>
            <p:nvPr/>
          </p:nvGrpSpPr>
          <p:grpSpPr>
            <a:xfrm>
              <a:off x="285840" y="142920"/>
              <a:ext cx="8643960" cy="3241440"/>
              <a:chOff x="285840" y="142920"/>
              <a:chExt cx="8643960" cy="3241440"/>
            </a:xfrm>
          </p:grpSpPr>
          <p:sp>
            <p:nvSpPr>
              <p:cNvPr id="383" name="AutoShape 2"/>
              <p:cNvSpPr/>
              <p:nvPr/>
            </p:nvSpPr>
            <p:spPr>
              <a:xfrm>
                <a:off x="285840" y="652320"/>
                <a:ext cx="8643960" cy="270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4" name="AutoShape 4"/>
              <p:cNvSpPr/>
              <p:nvPr/>
            </p:nvSpPr>
            <p:spPr>
              <a:xfrm>
                <a:off x="357120" y="142920"/>
                <a:ext cx="51436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여가활동 참여상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5" name="Text Box 6"/>
              <p:cNvSpPr/>
              <p:nvPr/>
            </p:nvSpPr>
            <p:spPr>
              <a:xfrm>
                <a:off x="357120" y="714240"/>
                <a:ext cx="8572680" cy="267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특성으로 인한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건강 및 경제상태의 악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관계망의 위축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참여도 저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에 대한 인식과 준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를 휴식으로만 생각하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생계와 가족부양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중한 나머지 여가에 대한 예비사회화 기회 제한으로 소일 위주의 여가활동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류를 이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여가서비스의 한계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연구의 부족으로 인한 여가모형의 미개발과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 대응방안의 미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복지시설의 부족과 낮은 접근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전문인력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과 프로그램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86" name="그룹 34"/>
            <p:cNvGrpSpPr/>
            <p:nvPr/>
          </p:nvGrpSpPr>
          <p:grpSpPr>
            <a:xfrm>
              <a:off x="285840" y="3652920"/>
              <a:ext cx="8643960" cy="2776320"/>
              <a:chOff x="285840" y="3652920"/>
              <a:chExt cx="8643960" cy="2776320"/>
            </a:xfrm>
          </p:grpSpPr>
          <p:sp>
            <p:nvSpPr>
              <p:cNvPr id="387" name="AutoShape 2"/>
              <p:cNvSpPr/>
              <p:nvPr/>
            </p:nvSpPr>
            <p:spPr>
              <a:xfrm>
                <a:off x="285840" y="4152960"/>
                <a:ext cx="8643960" cy="2276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AutoShape 4"/>
              <p:cNvSpPr/>
              <p:nvPr/>
            </p:nvSpPr>
            <p:spPr>
              <a:xfrm>
                <a:off x="357120" y="3652920"/>
                <a:ext cx="5357880" cy="47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의 여가활동 참여 촉진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9" name="Text Box 6"/>
              <p:cNvSpPr/>
              <p:nvPr/>
            </p:nvSpPr>
            <p:spPr>
              <a:xfrm>
                <a:off x="357120" y="4224240"/>
                <a:ext cx="850140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가교육을 통한 여가에 대한 인식증진으로 새로운 노년기 여가문화 정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와 가족의 노인 여가활동에 대한 자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여가복지시설의 확충과 지원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여가욕구에 기반한 다양한 여가프로그램의 개발 보급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여가지도 전문인력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민간부문의 경로우대제 확충과 노인여가산업 참여 유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11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pic>
          <p:nvPicPr>
            <p:cNvPr id="39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자원봉사활동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93" name="그룹 34"/>
            <p:cNvGrpSpPr/>
            <p:nvPr/>
          </p:nvGrpSpPr>
          <p:grpSpPr>
            <a:xfrm>
              <a:off x="285480" y="857160"/>
              <a:ext cx="8643960" cy="3286440"/>
              <a:chOff x="285480" y="857160"/>
              <a:chExt cx="8643960" cy="3286440"/>
            </a:xfrm>
          </p:grpSpPr>
          <p:sp>
            <p:nvSpPr>
              <p:cNvPr id="394" name="AutoShape 2"/>
              <p:cNvSpPr/>
              <p:nvPr/>
            </p:nvSpPr>
            <p:spPr>
              <a:xfrm>
                <a:off x="285480" y="1366920"/>
                <a:ext cx="8643960" cy="2776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AutoShape 4"/>
              <p:cNvSpPr/>
              <p:nvPr/>
            </p:nvSpPr>
            <p:spPr>
              <a:xfrm>
                <a:off x="356760" y="857160"/>
                <a:ext cx="471492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Text Box 6"/>
              <p:cNvSpPr/>
              <p:nvPr/>
            </p:nvSpPr>
            <p:spPr>
              <a:xfrm>
                <a:off x="499680" y="1428480"/>
                <a:ext cx="8358480" cy="27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라틴어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volo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voluntas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의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christian love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한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스스로 自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할 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받들 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길 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인이 가지고 있는 자신의 직접적 자원이나 능력을 활용하여 자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타인과 사회의 발전을 위하여 어떠한 보상도 요구하지 않으면서 지속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수행하는 시민들의 자발적인 계획적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을 위한 봉사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에 의한 봉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분야에서는‘노인에 의한 봉사’를 더욱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97" name="그룹 34"/>
            <p:cNvGrpSpPr/>
            <p:nvPr/>
          </p:nvGrpSpPr>
          <p:grpSpPr>
            <a:xfrm>
              <a:off x="285480" y="4286520"/>
              <a:ext cx="8715600" cy="2000160"/>
              <a:chOff x="285480" y="4286520"/>
              <a:chExt cx="8715600" cy="2000160"/>
            </a:xfrm>
          </p:grpSpPr>
          <p:sp>
            <p:nvSpPr>
              <p:cNvPr id="398" name="AutoShape 2"/>
              <p:cNvSpPr/>
              <p:nvPr/>
            </p:nvSpPr>
            <p:spPr>
              <a:xfrm>
                <a:off x="285480" y="4786560"/>
                <a:ext cx="86443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9" name="AutoShape 4"/>
              <p:cNvSpPr/>
              <p:nvPr/>
            </p:nvSpPr>
            <p:spPr>
              <a:xfrm>
                <a:off x="356760" y="4286520"/>
                <a:ext cx="478656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0" name="Text Box 6"/>
              <p:cNvSpPr/>
              <p:nvPr/>
            </p:nvSpPr>
            <p:spPr>
              <a:xfrm>
                <a:off x="499680" y="4894560"/>
                <a:ext cx="8501400" cy="13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공공성 및 사회복지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무보수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창조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일상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자원봉사의 특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위의 일반적 자원봉사의 특성에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방향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양면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조성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라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지 특성이 추가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그룹 12"/>
          <p:cNvGrpSpPr/>
          <p:nvPr/>
        </p:nvGrpSpPr>
        <p:grpSpPr>
          <a:xfrm>
            <a:off x="181080" y="0"/>
            <a:ext cx="8962920" cy="6072120"/>
            <a:chOff x="181080" y="0"/>
            <a:chExt cx="8962920" cy="6072120"/>
          </a:xfrm>
        </p:grpSpPr>
        <p:pic>
          <p:nvPicPr>
            <p:cNvPr id="402" name="Picture 4" descr="C:\DOCUME~1\USER\LOCALS~1\Temp\UNI00000fb46198.gif"/>
            <p:cNvPicPr/>
            <p:nvPr/>
          </p:nvPicPr>
          <p:blipFill>
            <a:blip r:embed="rId1"/>
            <a:stretch/>
          </p:blipFill>
          <p:spPr>
            <a:xfrm>
              <a:off x="6500880" y="0"/>
              <a:ext cx="2643120" cy="129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3" name="Group 13"/>
            <p:cNvGrpSpPr/>
            <p:nvPr/>
          </p:nvGrpSpPr>
          <p:grpSpPr>
            <a:xfrm>
              <a:off x="181080" y="357120"/>
              <a:ext cx="8820000" cy="5715000"/>
              <a:chOff x="181080" y="357120"/>
              <a:chExt cx="8820000" cy="5715000"/>
            </a:xfrm>
          </p:grpSpPr>
          <p:sp>
            <p:nvSpPr>
              <p:cNvPr id="404" name="AutoShape 4"/>
              <p:cNvSpPr/>
              <p:nvPr/>
            </p:nvSpPr>
            <p:spPr>
              <a:xfrm>
                <a:off x="214200" y="357120"/>
                <a:ext cx="5857920" cy="57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자원봉사활동의 의의와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05" name="그룹 2"/>
              <p:cNvGrpSpPr/>
              <p:nvPr/>
            </p:nvGrpSpPr>
            <p:grpSpPr>
              <a:xfrm>
                <a:off x="181080" y="3500280"/>
                <a:ext cx="8820000" cy="2571840"/>
                <a:chOff x="181080" y="3500280"/>
                <a:chExt cx="8820000" cy="2571840"/>
              </a:xfrm>
            </p:grpSpPr>
            <p:sp>
              <p:nvSpPr>
                <p:cNvPr id="406" name="AutoShape 2"/>
                <p:cNvSpPr/>
                <p:nvPr/>
              </p:nvSpPr>
              <p:spPr>
                <a:xfrm>
                  <a:off x="181080" y="3909240"/>
                  <a:ext cx="8820000" cy="2162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7" name="Text Box 6"/>
                <p:cNvSpPr/>
                <p:nvPr/>
              </p:nvSpPr>
              <p:spPr>
                <a:xfrm>
                  <a:off x="285840" y="3941640"/>
                  <a:ext cx="8715240" cy="20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지위와 역할 보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유용성과 자아개념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소외와 고독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긍정적 태도 형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성장과 자아실현 기회 부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관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의 유지와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존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적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인식개선 및 노인차별의식 약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유휴노인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생산성 제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비용 경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인력의 보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연대감 및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통합의 촉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08" name="직사각형 5"/>
                <p:cNvSpPr/>
                <p:nvPr/>
              </p:nvSpPr>
              <p:spPr>
                <a:xfrm>
                  <a:off x="214200" y="3500280"/>
                  <a:ext cx="59292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884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Arial"/>
                    </a:rPr>
                    <a:t>노년기 자원봉사활동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AutoShape 2"/>
              <p:cNvSpPr/>
              <p:nvPr/>
            </p:nvSpPr>
            <p:spPr>
              <a:xfrm>
                <a:off x="181080" y="1623960"/>
                <a:ext cx="8820000" cy="1590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0" name="Text Box 6"/>
              <p:cNvSpPr/>
              <p:nvPr/>
            </p:nvSpPr>
            <p:spPr>
              <a:xfrm>
                <a:off x="285840" y="1655640"/>
                <a:ext cx="8643960" cy="144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부양기능 약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흡한 노인복지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노인의 사회적 의존성 증가와 국가의 노인문제 해결 노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 봉사 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의 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적응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발전 기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통한 창조적이고 활발한 노후생활 기회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직사각형 11"/>
              <p:cNvSpPr/>
              <p:nvPr/>
            </p:nvSpPr>
            <p:spPr>
              <a:xfrm>
                <a:off x="214200" y="1214280"/>
                <a:ext cx="61581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 자원봉사활동의 의의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그룹 11"/>
          <p:cNvGrpSpPr/>
          <p:nvPr/>
        </p:nvGrpSpPr>
        <p:grpSpPr>
          <a:xfrm>
            <a:off x="357120" y="142920"/>
            <a:ext cx="8572680" cy="6286320"/>
            <a:chOff x="357120" y="142920"/>
            <a:chExt cx="8572680" cy="6286320"/>
          </a:xfrm>
        </p:grpSpPr>
        <p:sp>
          <p:nvSpPr>
            <p:cNvPr id="413" name="AutoShape 2"/>
            <p:cNvSpPr/>
            <p:nvPr/>
          </p:nvSpPr>
          <p:spPr>
            <a:xfrm>
              <a:off x="428400" y="4456080"/>
              <a:ext cx="8501400" cy="197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4" name="그룹 46"/>
            <p:cNvGrpSpPr/>
            <p:nvPr/>
          </p:nvGrpSpPr>
          <p:grpSpPr>
            <a:xfrm>
              <a:off x="357120" y="142920"/>
              <a:ext cx="8572680" cy="3000240"/>
              <a:chOff x="357120" y="142920"/>
              <a:chExt cx="8572680" cy="3000240"/>
            </a:xfrm>
          </p:grpSpPr>
          <p:sp>
            <p:nvSpPr>
              <p:cNvPr id="415" name="AutoShape 2"/>
              <p:cNvSpPr/>
              <p:nvPr/>
            </p:nvSpPr>
            <p:spPr>
              <a:xfrm>
                <a:off x="428400" y="812160"/>
                <a:ext cx="8501400" cy="2331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16" name="그룹 10"/>
              <p:cNvGrpSpPr/>
              <p:nvPr/>
            </p:nvGrpSpPr>
            <p:grpSpPr>
              <a:xfrm>
                <a:off x="357120" y="142920"/>
                <a:ext cx="8572680" cy="2952360"/>
                <a:chOff x="357120" y="142920"/>
                <a:chExt cx="8572680" cy="2952360"/>
              </a:xfrm>
            </p:grpSpPr>
            <p:sp>
              <p:nvSpPr>
                <p:cNvPr id="417" name="AutoShape 4"/>
                <p:cNvSpPr/>
                <p:nvPr/>
              </p:nvSpPr>
              <p:spPr>
                <a:xfrm>
                  <a:off x="357120" y="142920"/>
                  <a:ext cx="5400720" cy="539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자원봉사활동 참여실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18" name="Text Box 6"/>
                <p:cNvSpPr/>
                <p:nvPr/>
              </p:nvSpPr>
              <p:spPr>
                <a:xfrm>
                  <a:off x="499680" y="936360"/>
                  <a:ext cx="8430120" cy="21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산적 복지정책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현장의 노인 자원봉사 활성화 노력으로 관심증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원봉사 참여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에 따라 차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계청 조사에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.1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나타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구집단이나 미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4%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비해 현격히 낮음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6-4 </a:t>
                  </a:r>
                  <a:r>
                    <a:rPr b="0" lang="ko-KR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사회활동 지원사업 추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치단체나 복지기관의 봉사조직 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식제고로 봉사참여가 확대될 것으로 예측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과 경제사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권위적 성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주의의식과 수동성으로 지나친 긍정적 예측은 한계가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그룹 10"/>
            <p:cNvGrpSpPr/>
            <p:nvPr/>
          </p:nvGrpSpPr>
          <p:grpSpPr>
            <a:xfrm>
              <a:off x="357120" y="3389400"/>
              <a:ext cx="7429680" cy="3034800"/>
              <a:chOff x="357120" y="3389400"/>
              <a:chExt cx="7429680" cy="3034800"/>
            </a:xfrm>
          </p:grpSpPr>
          <p:sp>
            <p:nvSpPr>
              <p:cNvPr id="420" name="AutoShape 4"/>
              <p:cNvSpPr/>
              <p:nvPr/>
            </p:nvSpPr>
            <p:spPr>
              <a:xfrm>
                <a:off x="357120" y="3389400"/>
                <a:ext cx="5580360" cy="539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인 자원봉사 참여의 촉진과 관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Text Box 6"/>
              <p:cNvSpPr/>
              <p:nvPr/>
            </p:nvSpPr>
            <p:spPr>
              <a:xfrm>
                <a:off x="499680" y="4500720"/>
                <a:ext cx="72871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자원봉사 참여의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전문봉사 프로그램의 개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 지도자 양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원봉사조직의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활동에 대한 보상체계 등 사회적 지원체계의 확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2" name="직사각형 23"/>
            <p:cNvSpPr/>
            <p:nvPr/>
          </p:nvSpPr>
          <p:spPr>
            <a:xfrm>
              <a:off x="357120" y="4059360"/>
              <a:ext cx="59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자원봉사 참여 촉진방안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그룹 4"/>
          <p:cNvGrpSpPr/>
          <p:nvPr/>
        </p:nvGrpSpPr>
        <p:grpSpPr>
          <a:xfrm>
            <a:off x="285840" y="142920"/>
            <a:ext cx="8643960" cy="6215040"/>
            <a:chOff x="285840" y="142920"/>
            <a:chExt cx="8643960" cy="6215040"/>
          </a:xfrm>
        </p:grpSpPr>
        <p:sp>
          <p:nvSpPr>
            <p:cNvPr id="424" name="AutoShape 2"/>
            <p:cNvSpPr/>
            <p:nvPr/>
          </p:nvSpPr>
          <p:spPr>
            <a:xfrm>
              <a:off x="285840" y="680760"/>
              <a:ext cx="8572680" cy="567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Text Box 6"/>
            <p:cNvSpPr/>
            <p:nvPr/>
          </p:nvSpPr>
          <p:spPr>
            <a:xfrm>
              <a:off x="714240" y="714240"/>
              <a:ext cx="8215560" cy="56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모집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모집과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=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 참여 유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적 봉사자를 최대한 발굴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절한 홍보문건을 만들고 효과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홍보방법을 개발하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수모집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표적모집 등 방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집시기는 연간계획에 의한 모집이 적절하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른 기관의 모집과 중복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되지 않는 것이 바람직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배치상담을 통해 지원자의 동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 등 파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참여가 확실하면 봉사자와 협의하여 적절한 프로그램에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자 희망업무가 없거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관심사가 바뀌면 재배치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교육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훈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전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본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직훈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환훈련을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교육시간 편성은 봉사자 편의를 적극 고려하고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다양한 교육방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활동 지도 및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지속적 격려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상이 필수적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기모임과 수시모임을 통해 봉사활동의 효과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애로사항 등을 점검 평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하고 수정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완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직사각형 23"/>
            <p:cNvSpPr/>
            <p:nvPr/>
          </p:nvSpPr>
          <p:spPr>
            <a:xfrm>
              <a:off x="357120" y="142920"/>
              <a:ext cx="5929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노인 자원봉사자의 관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3"/>
          <p:cNvGrpSpPr/>
          <p:nvPr/>
        </p:nvGrpSpPr>
        <p:grpSpPr>
          <a:xfrm>
            <a:off x="0" y="0"/>
            <a:ext cx="9358200" cy="6555600"/>
            <a:chOff x="0" y="0"/>
            <a:chExt cx="9358200" cy="6555600"/>
          </a:xfrm>
        </p:grpSpPr>
        <p:pic>
          <p:nvPicPr>
            <p:cNvPr id="42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교육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0" name="그룹 46"/>
            <p:cNvGrpSpPr/>
            <p:nvPr/>
          </p:nvGrpSpPr>
          <p:grpSpPr>
            <a:xfrm>
              <a:off x="285480" y="785520"/>
              <a:ext cx="8715600" cy="3071880"/>
              <a:chOff x="285480" y="785520"/>
              <a:chExt cx="8715600" cy="3071880"/>
            </a:xfrm>
          </p:grpSpPr>
          <p:sp>
            <p:nvSpPr>
              <p:cNvPr id="431" name="AutoShape 2"/>
              <p:cNvSpPr/>
              <p:nvPr/>
            </p:nvSpPr>
            <p:spPr>
              <a:xfrm>
                <a:off x="285480" y="1285560"/>
                <a:ext cx="8715600" cy="25718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2" name="그룹 10"/>
              <p:cNvGrpSpPr/>
              <p:nvPr/>
            </p:nvGrpSpPr>
            <p:grpSpPr>
              <a:xfrm>
                <a:off x="356760" y="785520"/>
                <a:ext cx="8644320" cy="3049200"/>
                <a:chOff x="356760" y="785520"/>
                <a:chExt cx="8644320" cy="3049200"/>
              </a:xfrm>
            </p:grpSpPr>
            <p:sp>
              <p:nvSpPr>
                <p:cNvPr id="433" name="AutoShape 4"/>
                <p:cNvSpPr/>
                <p:nvPr/>
              </p:nvSpPr>
              <p:spPr>
                <a:xfrm>
                  <a:off x="356760" y="785520"/>
                  <a:ext cx="4643640" cy="432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의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4" name="Text Box 6"/>
                <p:cNvSpPr/>
                <p:nvPr/>
              </p:nvSpPr>
              <p:spPr>
                <a:xfrm>
                  <a:off x="356760" y="1325880"/>
                  <a:ext cx="8644320" cy="25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학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0.6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줄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이 향상되고 있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향후 고학력노인 증가 예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평생교육 참여율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2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불과하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 증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력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자기계발 욕구 증가 등으로 노인교육의 필요성이 높아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인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아발전 기회 획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독감과 무용감 극복 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삶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통제력과 개인 역량 강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사회 차원의 효과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후세대에 성공적 노화모델 제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대한 사회인식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유휴인력의 활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비용 경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5" name="그룹 47"/>
            <p:cNvGrpSpPr/>
            <p:nvPr/>
          </p:nvGrpSpPr>
          <p:grpSpPr>
            <a:xfrm>
              <a:off x="285480" y="3970440"/>
              <a:ext cx="8786880" cy="2585160"/>
              <a:chOff x="285480" y="3970440"/>
              <a:chExt cx="8786880" cy="2585160"/>
            </a:xfrm>
          </p:grpSpPr>
          <p:sp>
            <p:nvSpPr>
              <p:cNvPr id="436" name="AutoShape 2"/>
              <p:cNvSpPr/>
              <p:nvPr/>
            </p:nvSpPr>
            <p:spPr>
              <a:xfrm>
                <a:off x="285480" y="4470480"/>
                <a:ext cx="8715600" cy="203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Arial"/>
                    <a:ea typeface="HY강B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37" name="그룹 10"/>
              <p:cNvGrpSpPr/>
              <p:nvPr/>
            </p:nvGrpSpPr>
            <p:grpSpPr>
              <a:xfrm>
                <a:off x="356760" y="3970440"/>
                <a:ext cx="8715600" cy="2585160"/>
                <a:chOff x="356760" y="3970440"/>
                <a:chExt cx="8715600" cy="2585160"/>
              </a:xfrm>
            </p:grpSpPr>
            <p:sp>
              <p:nvSpPr>
                <p:cNvPr id="438" name="AutoShape 4"/>
                <p:cNvSpPr/>
                <p:nvPr/>
              </p:nvSpPr>
              <p:spPr>
                <a:xfrm>
                  <a:off x="356760" y="3970440"/>
                  <a:ext cx="5214960" cy="431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교육의 개념과 하위영역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39" name="Text Box 6"/>
                <p:cNvSpPr/>
                <p:nvPr/>
              </p:nvSpPr>
              <p:spPr>
                <a:xfrm>
                  <a:off x="356760" y="4508640"/>
                  <a:ext cx="8715600" cy="204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용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령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era) 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gogy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pedagogy,  andragogy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이어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rigogy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6-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적 노력의 실천과 연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1199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교육의 하위영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을 위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관한 교육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에 의한 교육   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통합교육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14-215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그룹 11"/>
          <p:cNvGrpSpPr/>
          <p:nvPr/>
        </p:nvGrpSpPr>
        <p:grpSpPr>
          <a:xfrm>
            <a:off x="142920" y="71280"/>
            <a:ext cx="9001080" cy="6363360"/>
            <a:chOff x="142920" y="71280"/>
            <a:chExt cx="9001080" cy="6363360"/>
          </a:xfrm>
        </p:grpSpPr>
        <p:grpSp>
          <p:nvGrpSpPr>
            <p:cNvPr id="441" name="그룹 6"/>
            <p:cNvGrpSpPr/>
            <p:nvPr/>
          </p:nvGrpSpPr>
          <p:grpSpPr>
            <a:xfrm>
              <a:off x="180720" y="1253880"/>
              <a:ext cx="8820360" cy="2251800"/>
              <a:chOff x="180720" y="1253880"/>
              <a:chExt cx="8820360" cy="2251800"/>
            </a:xfrm>
          </p:grpSpPr>
          <p:sp>
            <p:nvSpPr>
              <p:cNvPr id="442" name="AutoShape 2"/>
              <p:cNvSpPr/>
              <p:nvPr/>
            </p:nvSpPr>
            <p:spPr>
              <a:xfrm>
                <a:off x="180720" y="1253880"/>
                <a:ext cx="8820360" cy="217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Text Box 25"/>
              <p:cNvSpPr/>
              <p:nvPr/>
            </p:nvSpPr>
            <p:spPr>
              <a:xfrm>
                <a:off x="213840" y="1253880"/>
                <a:ext cx="8644320" cy="225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문제 대처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 표현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기여의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변화에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향력 행사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월적 욕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cClusky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 건강관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양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과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 평생교육 욕구 있음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학습능력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기능 저하로 노년기에 학습이 어렵다고 보는 것은 편견이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이고 지속적 노력으로 학습이 충분히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학습의 방해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황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향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흥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평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도적 요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교육에 대한 지원 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7"/>
            <p:cNvSpPr/>
            <p:nvPr/>
          </p:nvSpPr>
          <p:spPr>
            <a:xfrm>
              <a:off x="214200" y="71280"/>
              <a:ext cx="4786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 교육의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AutoShape 29"/>
            <p:cNvSpPr/>
            <p:nvPr/>
          </p:nvSpPr>
          <p:spPr>
            <a:xfrm>
              <a:off x="142920" y="6426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B"/>
                </a:rPr>
                <a:t>노인의 학습욕구와 능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6" name="그룹 33"/>
            <p:cNvGrpSpPr/>
            <p:nvPr/>
          </p:nvGrpSpPr>
          <p:grpSpPr>
            <a:xfrm>
              <a:off x="142920" y="3540240"/>
              <a:ext cx="9001080" cy="2894400"/>
              <a:chOff x="142920" y="3540240"/>
              <a:chExt cx="9001080" cy="2894400"/>
            </a:xfrm>
          </p:grpSpPr>
          <p:grpSp>
            <p:nvGrpSpPr>
              <p:cNvPr id="447" name="그룹 6"/>
              <p:cNvGrpSpPr/>
              <p:nvPr/>
            </p:nvGrpSpPr>
            <p:grpSpPr>
              <a:xfrm>
                <a:off x="181080" y="4040280"/>
                <a:ext cx="8962920" cy="2394360"/>
                <a:chOff x="181080" y="4040280"/>
                <a:chExt cx="8962920" cy="2394360"/>
              </a:xfrm>
            </p:grpSpPr>
            <p:sp>
              <p:nvSpPr>
                <p:cNvPr id="448" name="AutoShape 2"/>
                <p:cNvSpPr/>
                <p:nvPr/>
              </p:nvSpPr>
              <p:spPr>
                <a:xfrm>
                  <a:off x="181080" y="4040280"/>
                  <a:ext cx="8820360" cy="2357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49" name="Text Box 25"/>
                <p:cNvSpPr/>
                <p:nvPr/>
              </p:nvSpPr>
              <p:spPr>
                <a:xfrm>
                  <a:off x="214200" y="4093920"/>
                  <a:ext cx="8929800" cy="23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실은 노인대학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학교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로대학 등의 명칭으로 설립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한노인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복지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 등에서 운영하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종교단체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 노인교실은 정확한 현황파악 어려움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2020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 복지부 등록 노인교실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,291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개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별시와 광역시에 노인교실 집중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설립조직에 따라 운영의 편차가 매우 큼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내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강의와 여가활동으로 구분되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치중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관과 사회복지관의 노인교육이 가장 충실하지만 편차가 크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학 등에서 평생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차원의 노인교육을 실시하나 미흡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AutoShape 29"/>
              <p:cNvSpPr/>
              <p:nvPr/>
            </p:nvSpPr>
            <p:spPr>
              <a:xfrm>
                <a:off x="142920" y="35402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교육의 실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1"/>
          <p:cNvGrpSpPr/>
          <p:nvPr/>
        </p:nvGrpSpPr>
        <p:grpSpPr>
          <a:xfrm>
            <a:off x="142920" y="-71280"/>
            <a:ext cx="8858160" cy="6451200"/>
            <a:chOff x="142920" y="-71280"/>
            <a:chExt cx="8858160" cy="6451200"/>
          </a:xfrm>
        </p:grpSpPr>
        <p:grpSp>
          <p:nvGrpSpPr>
            <p:cNvPr id="452" name="그룹 11"/>
            <p:cNvGrpSpPr/>
            <p:nvPr/>
          </p:nvGrpSpPr>
          <p:grpSpPr>
            <a:xfrm>
              <a:off x="142920" y="-71280"/>
              <a:ext cx="8858160" cy="3285720"/>
              <a:chOff x="142920" y="-71280"/>
              <a:chExt cx="8858160" cy="3285720"/>
            </a:xfrm>
          </p:grpSpPr>
          <p:grpSp>
            <p:nvGrpSpPr>
              <p:cNvPr id="453" name="그룹 6"/>
              <p:cNvGrpSpPr/>
              <p:nvPr/>
            </p:nvGrpSpPr>
            <p:grpSpPr>
              <a:xfrm>
                <a:off x="285480" y="500040"/>
                <a:ext cx="8715600" cy="2714400"/>
                <a:chOff x="285480" y="500040"/>
                <a:chExt cx="8715600" cy="2714400"/>
              </a:xfrm>
            </p:grpSpPr>
            <p:sp>
              <p:nvSpPr>
                <p:cNvPr id="454" name="AutoShape 2"/>
                <p:cNvSpPr/>
                <p:nvPr/>
              </p:nvSpPr>
              <p:spPr>
                <a:xfrm>
                  <a:off x="285480" y="500040"/>
                  <a:ext cx="8501400" cy="27144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5" name="Text Box 25"/>
                <p:cNvSpPr/>
                <p:nvPr/>
              </p:nvSpPr>
              <p:spPr>
                <a:xfrm>
                  <a:off x="356760" y="500040"/>
                  <a:ext cx="8644320" cy="268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및 강사진 부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기관 운영자의 비전문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운영재원 및 교육시설 등 미흡한 교육환경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육프로그램의 질과 교육방법의 전문성 결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 연합회 지도감독 기능의 미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특히 대한노인회 지역연합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기관간의 운영 편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AutoShape 29"/>
              <p:cNvSpPr/>
              <p:nvPr/>
            </p:nvSpPr>
            <p:spPr>
              <a:xfrm>
                <a:off x="142920" y="-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의 문제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7" name="그룹 15"/>
            <p:cNvGrpSpPr/>
            <p:nvPr/>
          </p:nvGrpSpPr>
          <p:grpSpPr>
            <a:xfrm>
              <a:off x="142920" y="3429000"/>
              <a:ext cx="8858160" cy="2950920"/>
              <a:chOff x="142920" y="3429000"/>
              <a:chExt cx="8858160" cy="2950920"/>
            </a:xfrm>
          </p:grpSpPr>
          <p:grpSp>
            <p:nvGrpSpPr>
              <p:cNvPr id="458" name="그룹 6"/>
              <p:cNvGrpSpPr/>
              <p:nvPr/>
            </p:nvGrpSpPr>
            <p:grpSpPr>
              <a:xfrm>
                <a:off x="285480" y="4000320"/>
                <a:ext cx="8715600" cy="2379600"/>
                <a:chOff x="285480" y="4000320"/>
                <a:chExt cx="8715600" cy="2379600"/>
              </a:xfrm>
            </p:grpSpPr>
            <p:sp>
              <p:nvSpPr>
                <p:cNvPr id="459" name="AutoShape 2"/>
                <p:cNvSpPr/>
                <p:nvPr/>
              </p:nvSpPr>
              <p:spPr>
                <a:xfrm>
                  <a:off x="285480" y="4000320"/>
                  <a:ext cx="8501400" cy="2286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0" name="Text Box 25"/>
                <p:cNvSpPr/>
                <p:nvPr/>
              </p:nvSpPr>
              <p:spPr>
                <a:xfrm>
                  <a:off x="356760" y="4000320"/>
                  <a:ext cx="8644320" cy="23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기관의 성격 재규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생교육기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 행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재정지원 강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목표의 정립과 이에 따른 교육과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프로그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재 개발 보급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교육 전문인력 양성과 교육기관 채용 의무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역 내 노인교육 기관간의 유기적 협력체계 구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1" name="AutoShape 29"/>
              <p:cNvSpPr/>
              <p:nvPr/>
            </p:nvSpPr>
            <p:spPr>
              <a:xfrm>
                <a:off x="142920" y="34290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노인교육 활성화를 위한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그룹 14"/>
          <p:cNvGrpSpPr/>
          <p:nvPr/>
        </p:nvGrpSpPr>
        <p:grpSpPr>
          <a:xfrm>
            <a:off x="0" y="71280"/>
            <a:ext cx="8929800" cy="6643800"/>
            <a:chOff x="0" y="71280"/>
            <a:chExt cx="8929800" cy="6643800"/>
          </a:xfrm>
        </p:grpSpPr>
        <p:grpSp>
          <p:nvGrpSpPr>
            <p:cNvPr id="463" name="그룹 12"/>
            <p:cNvGrpSpPr/>
            <p:nvPr/>
          </p:nvGrpSpPr>
          <p:grpSpPr>
            <a:xfrm>
              <a:off x="0" y="5816520"/>
              <a:ext cx="8501400" cy="898560"/>
              <a:chOff x="0" y="5816520"/>
              <a:chExt cx="8501400" cy="898560"/>
            </a:xfrm>
          </p:grpSpPr>
          <p:pic>
            <p:nvPicPr>
              <p:cNvPr id="464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816520"/>
                <a:ext cx="112284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Rectangle 4"/>
              <p:cNvSpPr/>
              <p:nvPr/>
            </p:nvSpPr>
            <p:spPr>
              <a:xfrm>
                <a:off x="961920" y="6000480"/>
                <a:ext cx="7539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주거생활과 고령친화산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6" name="그룹 13"/>
            <p:cNvGrpSpPr/>
            <p:nvPr/>
          </p:nvGrpSpPr>
          <p:grpSpPr>
            <a:xfrm>
              <a:off x="285480" y="71280"/>
              <a:ext cx="8644320" cy="5857200"/>
              <a:chOff x="285480" y="71280"/>
              <a:chExt cx="8644320" cy="5857200"/>
            </a:xfrm>
          </p:grpSpPr>
          <p:grpSp>
            <p:nvGrpSpPr>
              <p:cNvPr id="467" name="그룹 22"/>
              <p:cNvGrpSpPr/>
              <p:nvPr/>
            </p:nvGrpSpPr>
            <p:grpSpPr>
              <a:xfrm>
                <a:off x="285480" y="642600"/>
                <a:ext cx="8644320" cy="5285880"/>
                <a:chOff x="285480" y="642600"/>
                <a:chExt cx="8644320" cy="5285880"/>
              </a:xfrm>
            </p:grpSpPr>
            <p:sp>
              <p:nvSpPr>
                <p:cNvPr id="468" name="AutoShape 2"/>
                <p:cNvSpPr/>
                <p:nvPr/>
              </p:nvSpPr>
              <p:spPr>
                <a:xfrm>
                  <a:off x="285480" y="2928240"/>
                  <a:ext cx="8644320" cy="30002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AutoShape 2"/>
                <p:cNvSpPr/>
                <p:nvPr/>
              </p:nvSpPr>
              <p:spPr>
                <a:xfrm>
                  <a:off x="285480" y="999720"/>
                  <a:ext cx="8644320" cy="1428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0" name="Text Box 6"/>
                <p:cNvSpPr/>
                <p:nvPr/>
              </p:nvSpPr>
              <p:spPr>
                <a:xfrm>
                  <a:off x="356760" y="999720"/>
                  <a:ext cx="8501760" cy="144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목적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세대간 이해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의 창조적 삶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젊은 세대의 인생 경험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에 대한 준비와 적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‘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노인을 위한 교육’의 목표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화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응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계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관계 확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능동적 삶의 고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립과 사회참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직사각형 17"/>
                <p:cNvSpPr/>
                <p:nvPr/>
              </p:nvSpPr>
              <p:spPr>
                <a:xfrm>
                  <a:off x="285480" y="642600"/>
                  <a:ext cx="507240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노인교육 목적과 목표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grpSp>
              <p:nvGrpSpPr>
                <p:cNvPr id="472" name="그룹 10"/>
                <p:cNvGrpSpPr/>
                <p:nvPr/>
              </p:nvGrpSpPr>
              <p:grpSpPr>
                <a:xfrm>
                  <a:off x="285480" y="2531520"/>
                  <a:ext cx="8644320" cy="3341160"/>
                  <a:chOff x="285480" y="2531520"/>
                  <a:chExt cx="8644320" cy="3341160"/>
                </a:xfrm>
              </p:grpSpPr>
              <p:sp>
                <p:nvSpPr>
                  <p:cNvPr id="473" name="직사각형 18"/>
                  <p:cNvSpPr/>
                  <p:nvPr/>
                </p:nvSpPr>
                <p:spPr>
                  <a:xfrm>
                    <a:off x="285480" y="2531520"/>
                    <a:ext cx="664416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buSzPct val="102909"/>
                      <a:buBlip>
                        <a:blip r:embed="rId5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  </a:t>
                    </a:r>
                    <a:r>
                      <a:rPr b="0" lang="ko-KR" sz="2200" spc="-1" strike="noStrike">
                        <a:solidFill>
                          <a:srgbClr val="c00000"/>
                        </a:solidFill>
                        <a:latin typeface="Arial"/>
                      </a:rPr>
                      <a:t>노인교육과정과 교과과정의 편성</a:t>
                    </a:r>
                    <a:endParaRPr b="0" lang="en-US" sz="22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Text Box 6"/>
                  <p:cNvSpPr/>
                  <p:nvPr/>
                </p:nvSpPr>
                <p:spPr>
                  <a:xfrm>
                    <a:off x="356760" y="2928240"/>
                    <a:ext cx="8573040" cy="29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6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욕구와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전문가 의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 기대 등 고려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7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과과정 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목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능력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흥미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욕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사회적 요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의 삶의 질 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향상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반복학습과 새로운 내용 안배 등 원칙에 근거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8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주요 교과과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문화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건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긴장해소 등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6-6 </a:t>
                    </a:r>
                    <a:r>
                      <a:rPr b="0" lang="ko-KR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800" spc="-1" strike="noStrike">
                        <a:solidFill>
                          <a:srgbClr val="c00000"/>
                        </a:solidFill>
                        <a:latin typeface="HY강M"/>
                        <a:ea typeface="HY강M"/>
                      </a:rPr>
                      <a:t>)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9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 원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학습자 중심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자기주도적 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상호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성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원격성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0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방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개인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집단학습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대집단 집회학습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buSzPct val="102812"/>
                      <a:buBlip>
                        <a:blip r:embed="rId11"/>
                      </a:buBlip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효과적 교육프로그램의 실행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욕구에 근거한 교육과정과 교수법 개발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에게 익숙한 내용과 학습재료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적절한 교육시간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다양한 교수법 활용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(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표 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6-7 </a:t>
                    </a:r>
                    <a:r>
                      <a:rPr b="0" lang="ko-KR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참조</a:t>
                    </a: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), </a:t>
                    </a:r>
                    <a:endParaRPr b="0" lang="en-US" sz="16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af334e"/>
                        </a:solidFill>
                        <a:latin typeface="HY강M"/>
                        <a:ea typeface="HY강M"/>
                      </a:rPr>
                      <a:t>  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노인특성 고려한 학습공간의 구축</a:t>
                    </a:r>
                    <a:r>
                      <a:rPr b="0" lang="en-US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, </a:t>
                    </a:r>
                    <a:r>
                      <a:rPr b="0" lang="ko-KR" sz="1800" spc="-1" strike="noStrike">
                        <a:solidFill>
                          <a:srgbClr val="1a2f96"/>
                        </a:solidFill>
                        <a:latin typeface="HY강M"/>
                        <a:ea typeface="HY강M"/>
                      </a:rPr>
                      <a:t>교육과정의 평가가 이루어져야 함</a:t>
                    </a:r>
                    <a:endParaRPr b="0" lang="en-US" sz="1800" spc="-1" strike="noStrike">
                      <a:solidFill>
                        <a:srgbClr val="1d528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5" name="AutoShape 4"/>
              <p:cNvSpPr/>
              <p:nvPr/>
            </p:nvSpPr>
            <p:spPr>
              <a:xfrm>
                <a:off x="356760" y="71280"/>
                <a:ext cx="54010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교육 과정의 편성과 운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유형 변화 및 현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문제의 이해와 여가참여 촉진방안 모색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년기 자원봉사활동의 특성 이해와 봉사자 관리기술 습득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HY강B"/>
                </a:rPr>
                <a:t>노인교육의 현상 이해 및 노인교육 프로그램 기획능력 함양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500" spc="-1" strike="noStrike">
                <a:solidFill>
                  <a:srgbClr val="ffffff"/>
                </a:solidFill>
                <a:latin typeface="HY강B"/>
                <a:ea typeface="HY강B"/>
              </a:rPr>
              <a:t>6 </a:t>
            </a:r>
            <a:r>
              <a:rPr b="1" lang="ko-KR" sz="35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5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316" name="AutoShape 2"/>
            <p:cNvSpPr/>
            <p:nvPr/>
          </p:nvSpPr>
          <p:spPr>
            <a:xfrm>
              <a:off x="180720" y="3286080"/>
              <a:ext cx="88203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1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의 의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9" name="그룹 18"/>
            <p:cNvGrpSpPr/>
            <p:nvPr/>
          </p:nvGrpSpPr>
          <p:grpSpPr>
            <a:xfrm>
              <a:off x="180720" y="1357200"/>
              <a:ext cx="8820360" cy="1428840"/>
              <a:chOff x="180720" y="1357200"/>
              <a:chExt cx="8820360" cy="1428840"/>
            </a:xfrm>
          </p:grpSpPr>
          <p:sp>
            <p:nvSpPr>
              <p:cNvPr id="320" name="AutoShape 2"/>
              <p:cNvSpPr/>
              <p:nvPr/>
            </p:nvSpPr>
            <p:spPr>
              <a:xfrm>
                <a:off x="180720" y="1781280"/>
                <a:ext cx="8820360" cy="1004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21" name="그룹 10"/>
              <p:cNvGrpSpPr/>
              <p:nvPr/>
            </p:nvGrpSpPr>
            <p:grpSpPr>
              <a:xfrm>
                <a:off x="213840" y="1357200"/>
                <a:ext cx="8639640" cy="1351440"/>
                <a:chOff x="213840" y="1357200"/>
                <a:chExt cx="8639640" cy="1351440"/>
              </a:xfrm>
            </p:grpSpPr>
            <p:sp>
              <p:nvSpPr>
                <p:cNvPr id="322" name="AutoShape 29"/>
                <p:cNvSpPr/>
                <p:nvPr/>
              </p:nvSpPr>
              <p:spPr>
                <a:xfrm>
                  <a:off x="213840" y="135720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‘</a:t>
                  </a:r>
                  <a:r>
                    <a:rPr b="0" lang="en-US" sz="2400" spc="-1" strike="noStrike">
                      <a:solidFill>
                        <a:srgbClr val="c00000"/>
                      </a:solidFill>
                      <a:latin typeface="HY강B"/>
                    </a:rPr>
                    <a:t>leisure’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의 의미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3" name="Text Box 25"/>
                <p:cNvSpPr/>
                <p:nvPr/>
              </p:nvSpPr>
              <p:spPr>
                <a:xfrm>
                  <a:off x="213840" y="1852560"/>
                  <a:ext cx="8639640" cy="85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리스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scole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평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양 증진을 위한 적극적 행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마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tium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아무것도 하지 않는 소극적 상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휴식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분전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AutoShape 7"/>
            <p:cNvSpPr/>
            <p:nvPr/>
          </p:nvSpPr>
          <p:spPr>
            <a:xfrm>
              <a:off x="285480" y="857160"/>
              <a:ext cx="47862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여가활동의 개념과 속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5" name="그룹 10"/>
            <p:cNvGrpSpPr/>
            <p:nvPr/>
          </p:nvGrpSpPr>
          <p:grpSpPr>
            <a:xfrm>
              <a:off x="214200" y="2857680"/>
              <a:ext cx="8786880" cy="3615840"/>
              <a:chOff x="214200" y="2857680"/>
              <a:chExt cx="8786880" cy="3615840"/>
            </a:xfrm>
          </p:grpSpPr>
          <p:sp>
            <p:nvSpPr>
              <p:cNvPr id="326" name="AutoShape 29"/>
              <p:cNvSpPr/>
              <p:nvPr/>
            </p:nvSpPr>
            <p:spPr>
              <a:xfrm>
                <a:off x="214200" y="28576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7" name="Text Box 25"/>
              <p:cNvSpPr/>
              <p:nvPr/>
            </p:nvSpPr>
            <p:spPr>
              <a:xfrm>
                <a:off x="214200" y="3354480"/>
                <a:ext cx="8786880" cy="31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 정의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약적 노동과 대비되는 개념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성과 의무성이 희박한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택적 행위이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정서적 자유와 휴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추구하는 자유활동으로서 활동 자체가 목적인 활동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작적 정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 등의 생리적 필수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성취와 개인적 발전을 위한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 판단에서 자유롭고 평화로움을 느끼는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을 기준으로 할 때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활동의 내용과 질을 기준으로 할 때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활동’이라는 용어로 지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그룹 9"/>
          <p:cNvGrpSpPr/>
          <p:nvPr/>
        </p:nvGrpSpPr>
        <p:grpSpPr>
          <a:xfrm>
            <a:off x="142920" y="71280"/>
            <a:ext cx="9144000" cy="6143760"/>
            <a:chOff x="142920" y="71280"/>
            <a:chExt cx="9144000" cy="6143760"/>
          </a:xfrm>
        </p:grpSpPr>
        <p:sp>
          <p:nvSpPr>
            <p:cNvPr id="329" name="AutoShape 2"/>
            <p:cNvSpPr/>
            <p:nvPr/>
          </p:nvSpPr>
          <p:spPr>
            <a:xfrm>
              <a:off x="323640" y="4286160"/>
              <a:ext cx="8463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323640" y="499680"/>
              <a:ext cx="8463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1" name="그룹 10"/>
            <p:cNvGrpSpPr/>
            <p:nvPr/>
          </p:nvGrpSpPr>
          <p:grpSpPr>
            <a:xfrm>
              <a:off x="142920" y="3859200"/>
              <a:ext cx="9001440" cy="2270520"/>
              <a:chOff x="142920" y="3859200"/>
              <a:chExt cx="9001440" cy="2270520"/>
            </a:xfrm>
          </p:grpSpPr>
          <p:sp>
            <p:nvSpPr>
              <p:cNvPr id="332" name="AutoShape 29"/>
              <p:cNvSpPr/>
              <p:nvPr/>
            </p:nvSpPr>
            <p:spPr>
              <a:xfrm>
                <a:off x="142920" y="38592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와 유사 개념의 비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3" name="Text Box 25"/>
              <p:cNvSpPr/>
              <p:nvPr/>
            </p:nvSpPr>
            <p:spPr>
              <a:xfrm>
                <a:off x="504720" y="4359240"/>
                <a:ext cx="863964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recreation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 자유와 휴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움을 추구하는 선택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lay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쾌락을 추구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past-time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한 휴식이나 의미 없이 여가시간을 보내는 행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 없는 시간 죽이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34" name="그룹 10"/>
            <p:cNvGrpSpPr/>
            <p:nvPr/>
          </p:nvGrpSpPr>
          <p:grpSpPr>
            <a:xfrm>
              <a:off x="214200" y="71280"/>
              <a:ext cx="9072720" cy="3638880"/>
              <a:chOff x="214200" y="71280"/>
              <a:chExt cx="9072720" cy="3638880"/>
            </a:xfrm>
          </p:grpSpPr>
          <p:sp>
            <p:nvSpPr>
              <p:cNvPr id="335" name="AutoShape 29"/>
              <p:cNvSpPr/>
              <p:nvPr/>
            </p:nvSpPr>
            <p:spPr>
              <a:xfrm>
                <a:off x="214200" y="712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의 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Text Box 25"/>
              <p:cNvSpPr/>
              <p:nvPr/>
            </p:nvSpPr>
            <p:spPr>
              <a:xfrm>
                <a:off x="499680" y="568080"/>
                <a:ext cx="8787240" cy="31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칙적으로 경제적 기능을 하는 노동과는 반대되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즐거울 것으로 기대되거나 즐거운 일로 회상될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무성이 최소한인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자유를 느낄 수 있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가치에 위배되지 않는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요성과 심각성의 정도가 다양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드시는 아니지만 가끔 놀이의 요소를 포함한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그룹 14"/>
          <p:cNvGrpSpPr/>
          <p:nvPr/>
        </p:nvGrpSpPr>
        <p:grpSpPr>
          <a:xfrm>
            <a:off x="214200" y="71280"/>
            <a:ext cx="8929800" cy="6286680"/>
            <a:chOff x="214200" y="71280"/>
            <a:chExt cx="8929800" cy="6286680"/>
          </a:xfrm>
        </p:grpSpPr>
        <p:sp>
          <p:nvSpPr>
            <p:cNvPr id="338" name="AutoShape 2"/>
            <p:cNvSpPr/>
            <p:nvPr/>
          </p:nvSpPr>
          <p:spPr>
            <a:xfrm>
              <a:off x="394920" y="3571920"/>
              <a:ext cx="853452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9" name="그룹 18"/>
            <p:cNvGrpSpPr/>
            <p:nvPr/>
          </p:nvGrpSpPr>
          <p:grpSpPr>
            <a:xfrm>
              <a:off x="285480" y="785520"/>
              <a:ext cx="8858520" cy="2143080"/>
              <a:chOff x="285480" y="785520"/>
              <a:chExt cx="8858520" cy="2143080"/>
            </a:xfrm>
          </p:grpSpPr>
          <p:sp>
            <p:nvSpPr>
              <p:cNvPr id="340" name="AutoShape 2"/>
              <p:cNvSpPr/>
              <p:nvPr/>
            </p:nvSpPr>
            <p:spPr>
              <a:xfrm>
                <a:off x="394920" y="1285560"/>
                <a:ext cx="8534880" cy="1643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41" name="그룹 10"/>
              <p:cNvGrpSpPr/>
              <p:nvPr/>
            </p:nvGrpSpPr>
            <p:grpSpPr>
              <a:xfrm>
                <a:off x="285480" y="785520"/>
                <a:ext cx="8858520" cy="2113920"/>
                <a:chOff x="285480" y="785520"/>
                <a:chExt cx="8858520" cy="2113920"/>
              </a:xfrm>
            </p:grpSpPr>
            <p:sp>
              <p:nvSpPr>
                <p:cNvPr id="342" name="AutoShape 29"/>
                <p:cNvSpPr/>
                <p:nvPr/>
              </p:nvSpPr>
              <p:spPr>
                <a:xfrm>
                  <a:off x="28548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c00000"/>
                      </a:solidFill>
                      <a:latin typeface="HY강B"/>
                    </a:rPr>
                    <a:t>여가활동의 중요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43" name="Text Box 25"/>
                <p:cNvSpPr/>
                <p:nvPr/>
              </p:nvSpPr>
              <p:spPr>
                <a:xfrm>
                  <a:off x="504360" y="1356840"/>
                  <a:ext cx="863964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강제퇴직과 함께 강제적으로 부여된 여가시간의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발적 여가의 향유가 아닌 무위무용상태의 불가피형 여가생활 영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에 대한 예비사회화 기회의 제한으로 여가활용능력 제한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이로 인해 고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무료함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행감을 느낄 가능성 많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AutoShape 7"/>
            <p:cNvSpPr/>
            <p:nvPr/>
          </p:nvSpPr>
          <p:spPr>
            <a:xfrm>
              <a:off x="285480" y="71280"/>
              <a:ext cx="6215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여가활동의 중요성과 효과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14200" y="3071880"/>
              <a:ext cx="8572680" cy="3257640"/>
              <a:chOff x="214200" y="3071880"/>
              <a:chExt cx="8572680" cy="3257640"/>
            </a:xfrm>
          </p:grpSpPr>
          <p:sp>
            <p:nvSpPr>
              <p:cNvPr id="346" name="AutoShape 29"/>
              <p:cNvSpPr/>
              <p:nvPr/>
            </p:nvSpPr>
            <p:spPr>
              <a:xfrm>
                <a:off x="214200" y="307188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여가활동 참여의 효과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25"/>
              <p:cNvSpPr/>
              <p:nvPr/>
            </p:nvSpPr>
            <p:spPr>
              <a:xfrm>
                <a:off x="499680" y="3643200"/>
                <a:ext cx="8287200" cy="26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된 사회적 관계망의 보완 또는 유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위상태의 개선과 자기유용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개념의 긍정적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잠재적 재능의 확인과 이의 표현을 통한 자기실현의 기회 마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및 정신적 건강의 유지 또는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세대에 삶의 지혜와 문화를 전수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발전에 기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의 활력을 회복하고 사기와 삶의 만족도 증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율적 결정 능력의 증진과 삶에 대한 통제력 향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4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 여가활동 유형 변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1" name="그룹 17"/>
            <p:cNvGrpSpPr/>
            <p:nvPr/>
          </p:nvGrpSpPr>
          <p:grpSpPr>
            <a:xfrm>
              <a:off x="428400" y="1143000"/>
              <a:ext cx="8215560" cy="4929120"/>
              <a:chOff x="428400" y="1143000"/>
              <a:chExt cx="8215560" cy="4929120"/>
            </a:xfrm>
          </p:grpSpPr>
          <p:sp>
            <p:nvSpPr>
              <p:cNvPr id="352" name="AutoShape 2"/>
              <p:cNvSpPr/>
              <p:nvPr/>
            </p:nvSpPr>
            <p:spPr>
              <a:xfrm>
                <a:off x="428400" y="1928520"/>
                <a:ext cx="8215560" cy="4143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3" name="Text Box 25"/>
              <p:cNvSpPr/>
              <p:nvPr/>
            </p:nvSpPr>
            <p:spPr>
              <a:xfrm>
                <a:off x="642600" y="2117520"/>
                <a:ext cx="7930080" cy="37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 장소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중심형 여가활동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외 활동중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관계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충실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표현적 관여 정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분전환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적 활동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각쾌락활동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활동목적과 관계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일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인교류형</a:t>
                </a:r>
                <a:r>
                  <a:rPr b="0" lang="en-US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2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단체 활동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AutoShape 4"/>
              <p:cNvSpPr/>
              <p:nvPr/>
            </p:nvSpPr>
            <p:spPr>
              <a:xfrm>
                <a:off x="428400" y="1143000"/>
                <a:ext cx="44294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여가활동의 유형 분류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그룹 11"/>
          <p:cNvGrpSpPr/>
          <p:nvPr/>
        </p:nvGrpSpPr>
        <p:grpSpPr>
          <a:xfrm>
            <a:off x="285840" y="150840"/>
            <a:ext cx="8643960" cy="6278400"/>
            <a:chOff x="285840" y="150840"/>
            <a:chExt cx="8643960" cy="6278400"/>
          </a:xfrm>
        </p:grpSpPr>
        <p:sp>
          <p:nvSpPr>
            <p:cNvPr id="356" name="AutoShape 2"/>
            <p:cNvSpPr/>
            <p:nvPr/>
          </p:nvSpPr>
          <p:spPr>
            <a:xfrm>
              <a:off x="285840" y="4071960"/>
              <a:ext cx="86439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7" name="그룹 11"/>
            <p:cNvGrpSpPr/>
            <p:nvPr/>
          </p:nvGrpSpPr>
          <p:grpSpPr>
            <a:xfrm>
              <a:off x="285840" y="853920"/>
              <a:ext cx="8643960" cy="2778840"/>
              <a:chOff x="285840" y="853920"/>
              <a:chExt cx="8643960" cy="2778840"/>
            </a:xfrm>
          </p:grpSpPr>
          <p:sp>
            <p:nvSpPr>
              <p:cNvPr id="358" name="AutoShape 2"/>
              <p:cNvSpPr/>
              <p:nvPr/>
            </p:nvSpPr>
            <p:spPr>
              <a:xfrm>
                <a:off x="285840" y="1211040"/>
                <a:ext cx="8643960" cy="242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6"/>
              <p:cNvSpPr/>
              <p:nvPr/>
            </p:nvSpPr>
            <p:spPr>
              <a:xfrm>
                <a:off x="357120" y="1211040"/>
                <a:ext cx="8501400" cy="233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은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범위와 참여도는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의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¼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증가와 여가활동의 흥미변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운동경기 관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체활동 참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집안장식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 이슈 토론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감소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춤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영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스포츠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행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독서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연령증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흥미불변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친구방문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요리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TV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청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족관련 활동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장해소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모두 증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적 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소폭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창의적 활동 남녀 모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쾌락활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 모두 급격한 감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직사각형 7"/>
              <p:cNvSpPr/>
              <p:nvPr/>
            </p:nvSpPr>
            <p:spPr>
              <a:xfrm>
                <a:off x="285840" y="85392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의 참여유형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1" name="그룹 10"/>
            <p:cNvGrpSpPr/>
            <p:nvPr/>
          </p:nvGrpSpPr>
          <p:grpSpPr>
            <a:xfrm>
              <a:off x="285840" y="3722760"/>
              <a:ext cx="8643960" cy="2683800"/>
              <a:chOff x="285840" y="3722760"/>
              <a:chExt cx="8643960" cy="2683800"/>
            </a:xfrm>
          </p:grpSpPr>
          <p:sp>
            <p:nvSpPr>
              <p:cNvPr id="362" name="직사각형 9"/>
              <p:cNvSpPr/>
              <p:nvPr/>
            </p:nvSpPr>
            <p:spPr>
              <a:xfrm>
                <a:off x="285840" y="372276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년기 여가활동 참여의 영향요인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4151160"/>
                <a:ext cx="85726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령보다는 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관계망의 축소 등이 여가활동의 주요 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약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Kelly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의 성장과 독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한 건강상태와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인기 이후의 충분한 여가활동 예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사회적 지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일지역에 장기 거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웃에 비슷한 연령대의 노인이 많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우 참여도가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자체는 여가시간을 증가시키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참여도를 증진시켜주는 것은 아니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예비사회화에 따라 여가활동 참여도가 달라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4" name="AutoShape 4"/>
            <p:cNvSpPr/>
            <p:nvPr/>
          </p:nvSpPr>
          <p:spPr>
            <a:xfrm>
              <a:off x="357120" y="150840"/>
              <a:ext cx="4786200" cy="56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 여가활동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그룹 12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36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2"/>
            <p:cNvSpPr/>
            <p:nvPr/>
          </p:nvSpPr>
          <p:spPr>
            <a:xfrm>
              <a:off x="13572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여가활동 참여 실태와 촉진방안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AutoShape 4"/>
            <p:cNvSpPr/>
            <p:nvPr/>
          </p:nvSpPr>
          <p:spPr>
            <a:xfrm>
              <a:off x="357120" y="714240"/>
              <a:ext cx="4103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여가활동 참여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AutoShape 2"/>
            <p:cNvSpPr/>
            <p:nvPr/>
          </p:nvSpPr>
          <p:spPr>
            <a:xfrm>
              <a:off x="395280" y="1571400"/>
              <a:ext cx="8534520" cy="1071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0" name="그룹 10"/>
            <p:cNvGrpSpPr/>
            <p:nvPr/>
          </p:nvGrpSpPr>
          <p:grpSpPr>
            <a:xfrm>
              <a:off x="214200" y="1143000"/>
              <a:ext cx="8786880" cy="1497960"/>
              <a:chOff x="214200" y="1143000"/>
              <a:chExt cx="8786880" cy="1497960"/>
            </a:xfrm>
          </p:grpSpPr>
          <p:sp>
            <p:nvSpPr>
              <p:cNvPr id="371" name="AutoShape 29"/>
              <p:cNvSpPr/>
              <p:nvPr/>
            </p:nvSpPr>
            <p:spPr>
              <a:xfrm>
                <a:off x="214200" y="1143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하루 일과와 생활시간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Text Box 25"/>
              <p:cNvSpPr/>
              <p:nvPr/>
            </p:nvSpPr>
            <p:spPr>
              <a:xfrm>
                <a:off x="428400" y="1571400"/>
                <a:ext cx="857268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사 등 필수기간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 등 의무시간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와 참여 등 여가시간에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 사용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6-1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 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관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위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많은 시간 할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3" name="AutoShape 2"/>
            <p:cNvSpPr/>
            <p:nvPr/>
          </p:nvSpPr>
          <p:spPr>
            <a:xfrm>
              <a:off x="395280" y="3143160"/>
              <a:ext cx="853452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4" name="그룹 10"/>
            <p:cNvGrpSpPr/>
            <p:nvPr/>
          </p:nvGrpSpPr>
          <p:grpSpPr>
            <a:xfrm>
              <a:off x="214200" y="2714400"/>
              <a:ext cx="8786880" cy="3397320"/>
              <a:chOff x="214200" y="2714400"/>
              <a:chExt cx="8786880" cy="3397320"/>
            </a:xfrm>
          </p:grpSpPr>
          <p:sp>
            <p:nvSpPr>
              <p:cNvPr id="375" name="AutoShape 29"/>
              <p:cNvSpPr/>
              <p:nvPr/>
            </p:nvSpPr>
            <p:spPr>
              <a:xfrm>
                <a:off x="214200" y="27144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여가활동 참여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6" name="Text Box 25"/>
              <p:cNvSpPr/>
              <p:nvPr/>
            </p:nvSpPr>
            <p:spPr>
              <a:xfrm>
                <a:off x="428400" y="3142800"/>
                <a:ext cx="8572680" cy="29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가시간은 하루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 이용 등의 소극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적 여가활동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적 즐거움 추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음의 안정과 휴식 등이 여가활동의 주된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미오락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및 기타활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봉사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에 주로 참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7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청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및 친지방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교활동 등에 주로 참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자 또는 가족과의 정적이고 소극적 여가활동 경향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매일 여가 참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8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독충실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2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천원 비용 지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3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용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적은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학력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배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동거가구와 독신가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과 건강이 양호한 노인의 참여도가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여가문화를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ld folks leisure’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하는 것은 잘못된 인식과 편견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그룹 4"/>
          <p:cNvGrpSpPr/>
          <p:nvPr/>
        </p:nvGrpSpPr>
        <p:grpSpPr>
          <a:xfrm>
            <a:off x="214200" y="0"/>
            <a:ext cx="8715600" cy="6357960"/>
            <a:chOff x="214200" y="0"/>
            <a:chExt cx="8715600" cy="6357960"/>
          </a:xfrm>
        </p:grpSpPr>
        <p:sp>
          <p:nvSpPr>
            <p:cNvPr id="378" name="AutoShape 2"/>
            <p:cNvSpPr/>
            <p:nvPr/>
          </p:nvSpPr>
          <p:spPr>
            <a:xfrm>
              <a:off x="285480" y="428400"/>
              <a:ext cx="864432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571320" y="571320"/>
              <a:ext cx="8358480" cy="54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 참여율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4.1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.7%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.2%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사회단체 참여도는 낮은 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빈도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목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호회는 주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사회단체는 월 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회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하가 가장 많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 세대 노인은 개인적 교류 등의 개인적 이익을 위한 사회단체활동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높지만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개발과 성장</a:t>
              </a: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발전에 기여함을 목적으로 하는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활동 참여도는 낮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단체 참여도 낮은 이유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 세대 노인은 일 위주의 생활을 해왔고 여가를 곧 휴식으로 간주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왔으므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잠재력 개발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발전 기여에 대한 의식이 부족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화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봉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평생교육 시설의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단체 활동을 반사회적 행위로 간주하던 군부독재정치의 영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노인의 가족 외부활동 증가 및 권리의식 향상으로 향후 사회단체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도는 점진적으로 증가할 것으로 예측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AutoShape 29"/>
            <p:cNvSpPr/>
            <p:nvPr/>
          </p:nvSpPr>
          <p:spPr>
            <a:xfrm>
              <a:off x="214200" y="0"/>
              <a:ext cx="857304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사회단체 참여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3:50Z</dcterms:modified>
  <cp:revision>32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